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48E8-7671-4E04-B575-2110FA422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4F64-39B2-4C48-BF24-17E5BAAAC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69F4-13F1-47A0-8C36-51400CE27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3746-BC15-4718-9B78-A015FEBEB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0E0C0-9180-4D24-991C-A3112688D5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75728-F2F5-4D58-ABE7-AA28A66D1F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820C1-1D00-4167-BE5E-362CBC09AD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F832A-8514-40D5-9BB5-593061C5F9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BCFE2-D915-49BF-AEA1-43FF5A1649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E82F6-741A-4BB4-B1AE-4E9F2A4FED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E0DEE-6FA1-4A8A-A791-A073561687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C501-219D-46CE-926C-0CA6B39B3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00FEC-5669-404B-93D7-34AE744EB0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0E9C7-BEA1-4DF6-AD82-DD1FA8DBD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22FBC-6FD1-4517-AB8C-A3CE3F948E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76116-CADD-452D-B975-A605FA3F60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2C7A7-3449-4A08-A935-0CD6BBD7E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185F-EC9F-4BE8-AB83-143AB5069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8BD8-FD25-4A5D-AFE5-EB6C3190E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194F-C87B-473C-A815-440E297CF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5573-92FE-451E-B66C-D0551941A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84D9-A657-421C-A41F-B068E7AF8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FE95-325D-4402-8199-C73173CE4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4032-9BAD-4A83-82E3-FEF4ABBA6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3FAFC18-8350-4A41-B342-43ECA68FD34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66CFE9A-9180-484B-BEC4-4526A07CB3A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E09019F-1191-44CE-A040-14A0EC64ABA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92FD164-F828-4359-BB6E-01542ADBEFE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36A5-830D-4E16-A4AE-D5AA4DE12B50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4-29T15:26:08Z</dcterms:modified>
  <cp:revision>340</cp:revision>
  <dc:subject/>
  <dc:title>No Slide Title</dc:title>
</cp:coreProperties>
</file>